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F20-CB66-47DC-869E-B68A2C2E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350-4571-473E-98BB-1625A249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04CFB-758B-469A-897D-8A1430E8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390C5-C930-4809-8B0A-2BDE0085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DF928-8E66-4911-8C1E-953757BE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AF9A9-47B0-49E5-B4B5-CAC2D2E9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33034-074E-4653-ADEA-872EBC32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21701-4315-449B-B357-448E4295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802E6-0299-4B37-ABFC-C60B336C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13AE7-0482-4A3D-A381-4BBF201C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E9442-AD66-4849-8092-F704E076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21593-8884-4A1B-A0B9-42454E2C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BA5-6FE0-4792-B218-870A9BC8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BFBC5-8027-42B6-B41B-F96AF693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C8767-DCF1-419B-810F-89FA2357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30250-7962-4010-87F2-C16A5424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DDFAC-A2C6-4769-8932-E1024602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F693D-7F97-4E48-A260-A4D6C67D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88F54-870A-4D18-8822-620A52FC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6B315-C928-44FD-B0C7-A02C32E9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7C360-C27D-4FBC-819D-1DF2ECED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A5C6D-47FC-4B6E-8C90-65D5D88A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36151-B58E-4FB4-8129-09EB1E08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24C-EBFD-43C6-85CF-ACF8DF65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BF973-69F4-417F-A4EC-C20EE9F7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3FB0E-093C-41E2-8A07-6FD2DC72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7A1DA-2BDE-4CE0-88A6-ED7AFB64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D1D7C-D086-431F-B859-6D6B9BE3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53DCD-B621-4E80-B48D-8D0D6746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94F9C-E3CF-4C63-9F62-6A7D6FE9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5719B-B456-479C-9B59-27F6FF2F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8D898-9A80-416A-8CF4-17284733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6FC9A-AFA2-4226-86BD-D8310B10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641EF-B51E-4F43-97B6-BC76AB58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0B62-4D8B-4FBC-9106-A422A4FF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5FA7C-69E2-4B0A-A7D6-C38D6527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9C09C-C1DA-409B-89C1-CB85CFD1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38C5B-C1B7-49BB-B0E1-DD384E96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081EF-E3FF-4D21-BE2C-E81493A3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8A993-6B56-41B4-985E-FB2D6115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812E8-215B-45D7-9B32-E73A75F1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6E148-A9B2-45F5-BAFE-BCB5C161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3A279-A188-44EC-A6A0-B40D23A4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1401C-CBFF-4926-9A2C-E376CEAB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12C5B-D44A-4F46-83DB-42E2A3B0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77CC-232D-4793-A9C1-0DEFAE43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F79EF-7A8E-4DD0-B0FB-2721377E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B9FF6-70A3-4376-A27A-74C7899C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65AF7-0EA6-41DF-A690-EE68D7B8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EE646-B2E2-47E1-B015-781283B7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0B682-15E9-4668-B6A0-86E58ADE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35CA6-C596-4F6E-A509-FA128F5D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5E5DC-E3C2-4079-8752-6AC9A158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B2BD9-EEB2-4091-86BD-994FC858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927AE-94EF-44A3-9EF6-4CB6A1C5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A534A-3FB3-422D-9079-C7295655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52FC-87BA-43FD-93D3-05F4C185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1D398-17E8-4503-B461-1A9FD422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CF03E-B5F9-48D4-9407-B54E6CD1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C4841-0FA0-41C2-A155-5B3ADDC2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61621-1154-477B-96B0-7AFE3C38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D29A7-CF89-4257-98AE-C21013F6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AE018-6B72-40D1-A231-0F62D38B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9C6D7-BA10-4FB1-8F04-AF317F51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ADE5A-E795-40D0-A6D9-699D11F8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A10915-4014-4445-884E-C1C55F9B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E56B9-1A30-4921-A3E7-77C2A33D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0092-6EE1-494F-91F6-0466368C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49DDE-0667-43CA-9993-0E60975C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21EA3-5F0B-480B-BEA5-9822DD73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14FCA-8BA8-4BF2-9257-8F2CC25C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81D61-B51F-43FF-B9B4-088D2AD5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2164E-D02C-451B-B9CE-2707C0A0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36F99-365B-462B-A37E-7008BB45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F5FE9-AABD-41A9-9EE2-D4EC5A35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690E8-F5AB-4501-AD1F-009CEAF8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D9F10-EE5A-4149-9CD2-041CF5D3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A8A88A-8E64-49D7-81C9-3C3E9BAB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3B66-B301-4DF5-9151-C7FB9C41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F5968C-B69E-407A-A1CA-D497B1E2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3639D-CE60-43EA-AF67-8AB8B9AF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5E07E-8A86-4EED-825A-F1FB5279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2187F8-AA6C-4D9E-90DD-53B5EC40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CB65D-0A8F-4E01-B302-033744B1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290E15-7E00-4574-B8FE-69F34B8F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177A09-C8CC-4232-9596-F73D40CB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25FC7-97BE-496F-BE6F-860F235D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0A01B6-2605-4335-9208-9ACF0074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30E27-50B9-4454-B81B-D0B9E858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B4C6-AC50-432D-8DD3-96920798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F679F0-39FD-4114-828E-A2034705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A44F9-4B09-4513-A1E8-F071788E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3E8088-6900-4AF0-8303-47837503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C6F696-D356-489D-9BE8-A6DDE407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7523E-C457-48AA-89AD-5C05F845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9782B-3B6F-4387-944C-D9EE8772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B7B35-8077-4A73-AF87-1FB755D0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278840-FFD3-408B-BB75-A198D6C9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B145A-F4B5-4D22-8C39-FB420FD7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91589-1C7B-48DB-9362-3E37A08A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25AA-E0A5-4F19-9B49-3B15C1F5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6C4742-FC9F-4D9F-A55E-6B36A7ED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4EBAC6-D235-42B9-B59F-09E43E5C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E19711-68DC-467C-8FCF-6428D590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E2ACC-BD01-41EA-86F1-116975FD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900F29-BC16-4508-95A9-E9881E26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9799D0-A4DC-4FA6-BF76-0170D30A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5A655-289A-4750-8245-4E2B5A46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ABF3A9-D95A-4FAA-BEF8-71CC3BA2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9BBCA1-56CD-4042-8509-811426A6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AC599-167F-4DFD-95AF-0D20B753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3AC-9E01-4D25-99EC-23EDD551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3D5A-410F-4061-8DE8-7D5C92A7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59CC3C-5778-4FD0-BFE3-8845F713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B4FF21-4F63-4F53-AA99-3C6C904E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8395CA-9020-4FBF-84D9-5109148B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886BDE-ED15-4B5F-8628-B02D6365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C6DF6C-EA31-47EB-87A8-AC3F8785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FCDAEB-4921-4FB6-9818-649BF868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93BBF7-E4D3-4176-A704-0BAAC9F1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E24192-83EB-41BE-BE40-F098C4C9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7DCEC8-23DE-4A11-96ED-35F640A5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37843E-7084-4DEE-82AA-21A97C5E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4599-55F4-41A3-9627-95D3F1FB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9A5252-5436-4C1F-A002-7473B161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A6F012-46C3-4464-BA23-0046C0FA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2281AA-36BA-46B5-A235-7B4E8939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1C6844-95E1-458E-9498-FF936A38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BD2031-0B87-452C-9606-8FBAD870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8F4BE9-313D-47F4-B378-51D80105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B7A41-CDBF-4C8F-8FAD-CF0B702A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93D3B-7DB2-4F84-B303-870D9792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0B0042-3EC2-47E3-9528-D3A395A5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AC2C2F-D77E-4F59-B813-5CD15215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42FA-6D76-4B01-B4FD-E827B90D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AC97CC-73DB-48C4-A413-CF808906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64F05B-DC21-446E-801B-8BFD03B5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8369A3-3CFD-48FD-BFCD-40E637AE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9B2210-5080-4F41-821D-C750A737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D35829-352E-40E8-8B9E-83900B93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CE353-0DE7-49AE-BBA8-ECF3D621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749751-34D4-4984-99D6-E185D8BB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A66DBE-A7E0-4668-AC1E-C5DE8CFD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825F76-573B-4A0A-A2B5-C2B3CCFA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5F4A1B-9262-4D93-999C-2D75C371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01A8-984B-474B-92EA-CB316D5B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1B3213-1A4C-48CC-AF32-2A9B9A9B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4486D9-28F3-4D3C-9CCF-18427DE6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678B22-CBA9-4DBA-BD68-C134AA5A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45724F-BEFF-4D5F-9738-2B788C09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64DD92-99BF-4DE3-8056-BBB8F559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3137D-05DC-4AF4-B4A4-849A3A66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EA8A96-32F7-48B4-9056-9FBC97F2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D62587-3DFC-4853-A4C3-91773FC3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B39AA9-E357-4742-974E-503D8F70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B8C09B-98DB-4DAD-89BF-F83967F3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4447-1504-400A-8A6D-CD2AC87A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8ADD8F-CC64-405A-8B95-53807D9A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F9B588-FF72-4611-AB97-5F8385D7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D088D1-018E-4C3D-BA0F-748EEDC3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D68F89-7978-496F-87F5-A79383F0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6CD9BD-C309-46E2-A0FA-55C591E4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C9A873-2E41-4DB8-836F-0B04865B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25EDEF-516C-4457-9F36-0E384B20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5C5B2C-5A4A-46D6-9A9D-995AE48F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D0B5A7-4C8C-4EAC-B1D0-D8A6460E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846D2D-01D6-4FCA-A0EF-580F9980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015A-911D-4F30-9DF4-C6D21821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77D7C7-1425-4D27-BBD5-5C093FCB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87AF0B-31D2-4151-9E22-DDC1434A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AEB7EA-1C0F-4FFF-8CF4-3B777A2E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FCA9E-4FA7-4794-8835-4A9B0A2D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333A5-0AC8-4C1B-BF0E-20745852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F5E44-963D-4C27-86DC-E3689106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9F7CF-81D1-4A3B-AC73-25D39E7D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B34-8321-4B72-9178-64648B75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93D23-30BF-4685-B789-7477437F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913E-A0BB-46B8-89D0-E2615BAA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2D8C4-596E-4D87-A387-F5C967B0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8DD55-E852-4A5A-A720-24EE5B8B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CACF4-B9E0-417E-9682-3C35FEC9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D8021-B0E8-4E7D-AA42-1B679426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6670C-F188-4ED0-9B22-6E7050A8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B3DD5-95EC-4082-AEC4-443EDB75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A31A9-7CA3-4C99-8F39-14489EFE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425DB-BD06-479C-9959-0A142E26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CB1-5085-411C-88B1-D7868BC2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36841-18B7-44EF-B3D5-B8D44B30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9546A-36AB-4B33-BB93-5BB8F100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3526A-666F-4D16-AF28-FAE85AC0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E6095-802B-4F0D-99D7-24819CF2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5D047-97E6-4B7B-B527-31C775AA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0097F-F6FA-4DF5-B11F-9DDB45A8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5681D-1EB5-4CE0-AAC9-51375E09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3D55B-36C7-4750-856B-9BBD6B59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A5631-0B4E-49C2-A25B-39993DA6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6BB88-E02F-47F4-BB99-4EF98DD1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F5A-A994-45B4-BFE7-184EA9E3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6F1A6-F823-4878-901A-DFE1BC2C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BE709-FEBF-4A56-872A-C294FC4A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E758B-E10D-4E1D-90B1-EB14AA99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02C56-D09F-42A6-9016-BDD61658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0600B-6A01-48CC-B5D9-57ED3855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7F5FB-81E0-4E9C-B30A-DD5204C7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6408C-E035-4E1F-B4FE-8BDC1DA7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F527D-C2E5-4C8A-BA68-80A799FE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2EE7C-DE71-49D1-913D-2B131F1A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23553-A06A-45FE-93D0-D5A19635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CE51-46D0-4A0E-8CB6-E3AF63F9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3FD94-6FCB-4E1E-AB5A-1B1801B2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F9704-E95A-494B-9859-56881748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D6499-2D0F-4B25-9482-DF8E30E7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5B739-5B82-41EE-A955-BF4B1272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FEC45-0E0D-4CFB-9C18-1D295091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34F66-EBB7-48AF-9599-3ED90F03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A20E9-E04F-4324-8828-857931AA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B1113-0A70-41F2-83D7-4A467477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6A341-8B44-42A6-BC10-ECEAE841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0676E-A1F8-4556-945C-0DD36B8F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1CB-5330-4E90-BE7D-00021A6E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9A95F-E4D0-4A0F-BA7B-F22B9464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3A25E-B6DE-4DDA-982B-C22AE843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9D405-E6E3-4D4A-BCCC-CBD48F7B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4D9E7-212F-4064-A8D7-BF409E55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D70F8-ACB3-44C5-B97F-AE541DEB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7053E-1E3D-4DE3-A436-C7639C1A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D6CEA-EAA1-42B4-84B8-F6D81C30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B7A1A-B255-4ED6-8247-3F94843F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43380-BAEF-4900-98D7-37C8865B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AF0AD-7C95-4ECB-98C6-018B86C0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D53-37BE-4F97-AADE-500ECF9B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FD839-A0C9-4CC8-8D9C-03E80915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183F3-F892-49F9-AA0E-3DA7A22A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A726F-9E16-4C8B-BAC1-AE115182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544A9-647C-4095-B6C9-E515C225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0B28F-E8E8-4619-B3FA-24F3CB6F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713A6-BE8B-4069-862E-75FC24F1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A0202-3C14-4E7F-AD45-427D4C77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A8932-119B-471E-BB2A-C6096AB1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9EF9A-BDDD-4471-8F8B-C8D55FE0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E0502-D0D6-49ED-B681-76ACD7C8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EBE-5A07-4237-9151-80DC6C67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35A61-45A8-4C80-A62A-344647B6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A6123-5F7B-4307-9A7C-1FFCF459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B5EC7-9C30-4C0C-B1AC-74AAFD6E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97EA5-BF21-4B8D-A173-92D26400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FC050-9317-4AB0-86AD-65C3AFFB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4BBD4-61CF-4C3C-B2D4-2C2D745D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01DF0-3AE2-47E3-B153-A3C4EAD3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BC28F-DF3F-46B0-9357-973DB2AC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68DE1-48F7-412E-BD89-7794F90C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30894-E79F-41E4-B76A-FEC84F49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FA7E-88C8-4589-90E8-E8E2528D5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A2B3-BA2D-4875-8F40-40EFD529EC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6846-249B-4C27-9EA9-FD81EA54F7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4833-8BF9-4836-840D-6DCBA52C91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4826-2D8F-453A-AFE2-6EAAD5FA39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2A77-B88E-4B42-9B25-2D9BC8DCF9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65D3-9CF5-4EA9-ACF0-E53CEF58D5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5439-7E2F-49EA-813B-0CC2FA1D43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4BD8-2EAA-4BE0-806C-0866F6D634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6230-8D5E-4769-91D0-BF9859AEC1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30C6-EDB9-478C-9B75-091FD3C6E3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AC82-8A92-41E4-BD53-32672296AC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90A2-D1A8-482B-943D-02AADCDD5B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E432-6CBA-4428-8B58-88A82CF312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0858-146C-4399-B9E2-8598F27BBA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84AE-4C07-4550-947D-3DF4BDF1D7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BF6D-82B3-4082-9133-E6F936505A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9D48-D0E4-4D03-9360-59C7E69A97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918F-8B9E-4ED4-B392-8C5997E81F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4A37-5787-4636-B006-DD7DC77B9E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8B11-207A-432B-9ADF-07629FBF60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A029-AF29-4BF0-AB52-0B1BE0C505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E4DE-AAAC-4D9E-A869-8263FC46D4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55CB-F7E3-4713-B7E3-EAF4A85777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8E71-2277-4C74-A651-E0F78672E4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B2FE-B8B8-4475-8B63-D771A08287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D3C2-D1C7-46A3-AC5F-E4B19EB175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CFC0-B003-411F-879B-F82CD6D96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B7F7-0FDD-487E-9B82-2B5123CAC8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6C56-77D1-4012-B969-73099F4565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35B7-68DB-431C-AE5B-876D00BA57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F418-9E98-4A3E-BFF9-6DB6FA9313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5B97-3440-4168-B0CD-96555B3558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3357-3D8E-484D-89A4-A6FF180079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EF28-6CF8-4158-9835-7185F5D1CC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D58C-F945-4E02-8775-72DE5CD78C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B25B-98FA-458E-97B9-AA1E0D7A54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5D4E-EC2D-4BA5-9A55-23A3924F45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135C-7153-46E5-8DA4-218272F955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5131-3527-4715-81E5-9FBCD46613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809800" y="3133800"/>
            <a:ext cx="35244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271440" y="2471760"/>
            <a:ext cx="8599680" cy="1914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201680" y="4005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2627280" y="40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067280" y="40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508720" y="40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6877080" y="40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8158320" y="400536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50760" y="952560"/>
            <a:ext cx="8266320" cy="235260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2" descr=""/>
          <p:cNvPicPr/>
          <p:nvPr/>
        </p:nvPicPr>
        <p:blipFill>
          <a:blip r:embed="rId2"/>
          <a:stretch/>
        </p:blipFill>
        <p:spPr>
          <a:xfrm>
            <a:off x="50760" y="3621240"/>
            <a:ext cx="9042480" cy="2252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755640" y="1413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755640" y="1801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755640" y="21765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755640" y="25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7"/>
          <a:stretch/>
        </p:blipFill>
        <p:spPr>
          <a:xfrm>
            <a:off x="755640" y="2952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8"/>
          <a:stretch/>
        </p:blipFill>
        <p:spPr>
          <a:xfrm>
            <a:off x="755640" y="4033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9"/>
          <a:stretch/>
        </p:blipFill>
        <p:spPr>
          <a:xfrm>
            <a:off x="5148360" y="40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0"/>
          <a:stretch/>
        </p:blipFill>
        <p:spPr>
          <a:xfrm>
            <a:off x="755640" y="49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11"/>
          <a:stretch/>
        </p:blipFill>
        <p:spPr>
          <a:xfrm>
            <a:off x="5076720" y="49561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14520" y="2262240"/>
            <a:ext cx="7913520" cy="23335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1303200" y="2651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127332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1332000" y="3457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1258920" y="38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6"/>
          <a:stretch/>
        </p:blipFill>
        <p:spPr>
          <a:xfrm>
            <a:off x="1258920" y="42498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14:27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